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337-314A-402D-A8A6-17E12AC1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57C-F4C9-47EB-B55A-907EEB1C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381-0A15-4051-908D-AEE34CB6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756-0AC7-4B83-8E43-211A95AF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6F33-F931-4218-9473-407EE53D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5DA0-F311-4000-9B13-36C165DD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7F22-B076-4C14-834C-7357F634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F408-DB3A-4175-9CB0-AFA82940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90FC-6DFA-4AFE-B69A-2C5F06EA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8B8E-D535-43BC-9549-9AD0B85B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991F-B0D8-401F-AE50-3C86E42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58D-FF9E-4846-8FC5-577481B9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ADD1-BFD7-435F-8F9E-BBD8A5C0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A1CF-2256-4EBD-A222-AE87C6D2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ACE3-A399-44E1-9259-06C2E328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033D-79D5-41E1-80D8-1FE73BE7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85BC-DC54-4B19-A7A7-28D31761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E3D-8B88-4F33-BF93-A35417CC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D60-32C6-43A8-B6AB-B97631D1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E57-E9E8-4F8C-879C-DCF1DC27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E88-22FA-4739-A6D8-56777A6A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9FF-08F1-4227-9E75-6518A63F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7FC-7E33-4F56-BCFC-9FEE0F93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680-BD73-4030-896B-0116D45C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2b20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2b20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1309-79E5-4762-B9AF-B531BE99BD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849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33F3-32F2-4AD8-B9BB-A59B4098619E}" type="slidenum">
              <a:rPr b="0" lang="en-US" sz="14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6201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ae38"/>
                </a:solidFill>
                <a:latin typeface="Tahoma"/>
              </a:rPr>
              <a:t>Me llamo __________          Clase 802</a:t>
            </a:r>
            <a:br>
              <a:rPr sz="3200"/>
            </a:br>
            <a:r>
              <a:rPr b="0" lang="en-US" sz="3200" spc="-1" strike="noStrike">
                <a:solidFill>
                  <a:srgbClr val="b7ae38"/>
                </a:solidFill>
                <a:latin typeface="Tahoma"/>
              </a:rPr>
              <a:t>La fecha es el primero de junio del 2017</a:t>
            </a:r>
            <a:endParaRPr b="0" lang="en-US" sz="32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25814"/>
                </a:solidFill>
                <a:latin typeface="Tahoma"/>
              </a:rPr>
              <a:t>Propósito # 86:</a:t>
            </a:r>
            <a:r>
              <a:rPr b="0" lang="es-ES_tradnl" sz="2800" spc="-1" strike="noStrike">
                <a:solidFill>
                  <a:srgbClr val="d25814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¿Conoces un país extranjero?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7030a0"/>
                </a:solidFill>
                <a:latin typeface="Tahoma"/>
                <a:ea typeface="Tahoma"/>
              </a:rPr>
              <a:t>L.O: to review the uses of SABER &amp; CONOCER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25814"/>
                </a:solidFill>
                <a:latin typeface="Tahoma"/>
                <a:ea typeface="Tahoma"/>
              </a:rPr>
              <a:t>Actividad Inicial:</a:t>
            </a:r>
            <a:r>
              <a:rPr b="0" lang="es-ES_tradnl" sz="2800" spc="-1" strike="noStrike">
                <a:solidFill>
                  <a:srgbClr val="d25814"/>
                </a:solidFill>
                <a:latin typeface="Tahoma"/>
                <a:ea typeface="Tahoma"/>
              </a:rPr>
              <a:t> </a:t>
            </a: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In the following sentences, write the correct form CONOCER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Yo __________ México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Tú __________ al nuevo alumno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Ella _________ muchos países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Nosotros ___________ a los profesores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¿Ustedes __________ Europa?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WORKBOOK: completa p. 9.7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10" name="Picture 12" descr="bd05584_"/>
          <p:cNvPicPr/>
          <p:nvPr/>
        </p:nvPicPr>
        <p:blipFill>
          <a:blip r:embed="rId1"/>
          <a:stretch/>
        </p:blipFill>
        <p:spPr>
          <a:xfrm>
            <a:off x="7086600" y="327672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PE07015_"/>
          <p:cNvPicPr/>
          <p:nvPr/>
        </p:nvPicPr>
        <p:blipFill>
          <a:blip r:embed="rId2"/>
          <a:stretch/>
        </p:blipFill>
        <p:spPr>
          <a:xfrm>
            <a:off x="0" y="0"/>
            <a:ext cx="130032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643680" y="228600"/>
            <a:ext cx="33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b050"/>
                </a:solidFill>
                <a:latin typeface="Tahoma"/>
              </a:rPr>
              <a:t>Saber</a:t>
            </a:r>
            <a:endParaRPr b="0" lang="en-US" sz="8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3" name="Freeform 323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1587" h="6">
                <a:moveTo>
                  <a:pt x="0" y="6"/>
                </a:move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4" name="Freeform 327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5" name="Text Box 353"/>
          <p:cNvSpPr/>
          <p:nvPr/>
        </p:nvSpPr>
        <p:spPr>
          <a:xfrm>
            <a:off x="-102960" y="1752480"/>
            <a:ext cx="992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Indicates to know: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buClr>
                <a:srgbClr val="2f2b2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factual information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nformation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Yo 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sé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el número de teléfono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2. to know how to do something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ctivity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Paco 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sabe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jugar al fútbol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16" name="Picture 4" descr="PE07015_"/>
          <p:cNvPicPr/>
          <p:nvPr/>
        </p:nvPicPr>
        <p:blipFill>
          <a:blip r:embed="rId1"/>
          <a:stretch/>
        </p:blipFill>
        <p:spPr>
          <a:xfrm>
            <a:off x="6400800" y="533520"/>
            <a:ext cx="163368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499320" y="228600"/>
            <a:ext cx="47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000"/>
                </a:solidFill>
                <a:latin typeface="Tahoma"/>
              </a:rPr>
              <a:t>Conocer</a:t>
            </a:r>
            <a:endParaRPr b="0" lang="en-US" sz="8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1587" h="6">
                <a:moveTo>
                  <a:pt x="0" y="6"/>
                </a:move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24000" y="1752480"/>
            <a:ext cx="955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Indicates: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buClr>
                <a:srgbClr val="2f2b2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to know a person 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erson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Yo 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conozco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al Sr. Ruiz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2. to be familiar with a place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lace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Paco 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conoce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el parque 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de diverciones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21" name="Picture 4" descr="PE07015_"/>
          <p:cNvPicPr/>
          <p:nvPr/>
        </p:nvPicPr>
        <p:blipFill>
          <a:blip r:embed="rId1"/>
          <a:stretch/>
        </p:blipFill>
        <p:spPr>
          <a:xfrm>
            <a:off x="6705720" y="533520"/>
            <a:ext cx="163332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86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WORKBOOK: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Completa p. 9.8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2b20"/>
                </a:solidFill>
                <a:uFillTx/>
                <a:latin typeface="Tahoma"/>
              </a:rPr>
              <a:t>Quiz 4/5: Capitulo 9</a:t>
            </a: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 is on TUESDAY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Numbers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Saber/Conocer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Maps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3:52:50Z</dcterms:created>
  <dc:creator>Saint John's Hgh School</dc:creator>
  <dc:description/>
  <dc:language>en-US</dc:language>
  <cp:lastModifiedBy>Helen Zumaeta</cp:lastModifiedBy>
  <dcterms:modified xsi:type="dcterms:W3CDTF">2017-06-01T15:34:41Z</dcterms:modified>
  <cp:revision>54</cp:revision>
  <dc:subject/>
  <dc:title>PowerPoint Presentation</dc:title>
</cp:coreProperties>
</file>